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96EA-D18D-4651-9867-67C8FFC9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446DD-2798-48E0-9918-BFA041DB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1063-E05B-4261-B18C-84D94D8C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3F74-ADD5-472C-B307-5132C487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10E1-FA82-4531-9759-88FA666E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BF90-54EC-4800-8710-A8D7B149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3373-81AA-4D19-9A6C-9A684A93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7419-DC83-4885-AC64-7E72B042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5F3A-A5AB-4A52-BE91-ECF542CF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FB40-64F6-4075-B573-55583320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F814-7002-49D7-AEF2-3E27994C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4EEAE-35D0-4781-AB2D-1EC60916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F0AC-1057-4211-AB47-1C846922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F18B-CB50-4A79-A617-5778ACFF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D8D6-AE38-4D4F-B726-F2C77321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D606-80FF-44B4-A95F-FED2FE2F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42F9-402F-4075-88F8-F2ABE9A8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7449C-2D7B-403E-B816-0325311F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9B257-3F81-4B2C-BBFF-F7585B67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E0943-C6D4-40DB-93E6-FA29E539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A53A5-C61C-473A-AD33-CAA57860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39D42-2270-4039-AE5E-12C6BC2F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79F5-6144-470A-A097-D789F7A5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6A1B-F65A-4CFB-B84C-CC3D6AC7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5C42-CC02-4D44-9781-C6773863F866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FEEC-8C74-41D4-803C-93D70279BBB6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4831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环节  创设情境  导入新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77640" y="1444680"/>
            <a:ext cx="474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图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两个仓库，要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侧的河岸边建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码头，使它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到两个仓库的距离相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码头应建在什么位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7" descr=""/>
          <p:cNvPicPr/>
          <p:nvPr/>
        </p:nvPicPr>
        <p:blipFill>
          <a:blip r:embed="rId1"/>
          <a:stretch/>
        </p:blipFill>
        <p:spPr>
          <a:xfrm>
            <a:off x="3852720" y="2637000"/>
            <a:ext cx="3529080" cy="2379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76720" y="5877000"/>
            <a:ext cx="1079280" cy="288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8435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三环节  逆向思维，探索判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97120" y="2059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是一个真命题吗？如果是真命题，请你加以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3"/>
          <p:cNvGrpSpPr/>
          <p:nvPr/>
        </p:nvGrpSpPr>
        <p:grpSpPr>
          <a:xfrm>
            <a:off x="6660360" y="2492280"/>
            <a:ext cx="2055240" cy="1366560"/>
            <a:chOff x="6660360" y="2492280"/>
            <a:chExt cx="2055240" cy="1366560"/>
          </a:xfrm>
        </p:grpSpPr>
        <p:sp>
          <p:nvSpPr>
            <p:cNvPr id="292" name="Line 10"/>
            <p:cNvSpPr/>
            <p:nvPr/>
          </p:nvSpPr>
          <p:spPr>
            <a:xfrm>
              <a:off x="6821280" y="3594600"/>
              <a:ext cx="9039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 flipH="1">
              <a:off x="6820920" y="2678040"/>
              <a:ext cx="90396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>
              <a:off x="7725240" y="3594600"/>
              <a:ext cx="9046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>
              <a:off x="7725240" y="2678040"/>
              <a:ext cx="90468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8"/>
            <p:cNvGrpSpPr/>
            <p:nvPr/>
          </p:nvGrpSpPr>
          <p:grpSpPr>
            <a:xfrm>
              <a:off x="8579160" y="3583800"/>
              <a:ext cx="136440" cy="275040"/>
              <a:chOff x="8579160" y="3583800"/>
              <a:chExt cx="136440" cy="275040"/>
            </a:xfrm>
          </p:grpSpPr>
          <p:sp>
            <p:nvSpPr>
              <p:cNvPr id="297" name="Rectangle 20"/>
              <p:cNvSpPr/>
              <p:nvPr/>
            </p:nvSpPr>
            <p:spPr>
              <a:xfrm>
                <a:off x="8579880" y="3583800"/>
                <a:ext cx="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21"/>
              <p:cNvSpPr/>
              <p:nvPr/>
            </p:nvSpPr>
            <p:spPr>
              <a:xfrm>
                <a:off x="8579160" y="358380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21"/>
            <p:cNvGrpSpPr/>
            <p:nvPr/>
          </p:nvGrpSpPr>
          <p:grpSpPr>
            <a:xfrm>
              <a:off x="7494120" y="2492280"/>
              <a:ext cx="124200" cy="275040"/>
              <a:chOff x="7494120" y="2492280"/>
              <a:chExt cx="124200" cy="275040"/>
            </a:xfrm>
          </p:grpSpPr>
          <p:sp>
            <p:nvSpPr>
              <p:cNvPr id="300" name="Rectangle 23"/>
              <p:cNvSpPr/>
              <p:nvPr/>
            </p:nvSpPr>
            <p:spPr>
              <a:xfrm>
                <a:off x="7494840" y="2492280"/>
                <a:ext cx="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24"/>
              <p:cNvSpPr/>
              <p:nvPr/>
            </p:nvSpPr>
            <p:spPr>
              <a:xfrm>
                <a:off x="7494120" y="2492280"/>
                <a:ext cx="12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24"/>
            <p:cNvGrpSpPr/>
            <p:nvPr/>
          </p:nvGrpSpPr>
          <p:grpSpPr>
            <a:xfrm>
              <a:off x="6660360" y="3563640"/>
              <a:ext cx="136440" cy="275040"/>
              <a:chOff x="6660360" y="3563640"/>
              <a:chExt cx="136440" cy="275040"/>
            </a:xfrm>
          </p:grpSpPr>
          <p:sp>
            <p:nvSpPr>
              <p:cNvPr id="303" name="Rectangle 26"/>
              <p:cNvSpPr/>
              <p:nvPr/>
            </p:nvSpPr>
            <p:spPr>
              <a:xfrm>
                <a:off x="6661080" y="3563640"/>
                <a:ext cx="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27"/>
              <p:cNvSpPr/>
              <p:nvPr/>
            </p:nvSpPr>
            <p:spPr>
              <a:xfrm>
                <a:off x="6660360" y="356364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Rectangle 4"/>
          <p:cNvSpPr/>
          <p:nvPr/>
        </p:nvSpPr>
        <p:spPr>
          <a:xfrm>
            <a:off x="395280" y="2565360"/>
            <a:ext cx="66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已知：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=P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．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8000" y="105264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个点到一条线段两个端点的距离相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个点在这条线段的垂直平分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1258920" y="5589720"/>
            <a:ext cx="1368360" cy="57600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1295" h="21600">
                <a:moveTo>
                  <a:pt x="0" y="0"/>
                </a:moveTo>
                <a:lnTo>
                  <a:pt x="51295" y="0"/>
                </a:lnTo>
                <a:lnTo>
                  <a:pt x="51295" y="21600"/>
                </a:lnTo>
                <a:lnTo>
                  <a:pt x="0" y="21600"/>
                </a:lnTo>
                <a:close/>
              </a:path>
              <a:path fill="lightenLess" w="51295" h="21600">
                <a:moveTo>
                  <a:pt x="0" y="0"/>
                </a:moveTo>
                <a:lnTo>
                  <a:pt x="51295" y="0"/>
                </a:lnTo>
                <a:lnTo>
                  <a:pt x="49895" y="1400"/>
                </a:lnTo>
                <a:lnTo>
                  <a:pt x="1400" y="1400"/>
                </a:lnTo>
                <a:close/>
              </a:path>
              <a:path fill="darken" w="51295" h="21600">
                <a:moveTo>
                  <a:pt x="51295" y="0"/>
                </a:moveTo>
                <a:lnTo>
                  <a:pt x="51295" y="21600"/>
                </a:lnTo>
                <a:lnTo>
                  <a:pt x="49895" y="20200"/>
                </a:lnTo>
                <a:lnTo>
                  <a:pt x="49895" y="1400"/>
                </a:lnTo>
                <a:close/>
              </a:path>
              <a:path fill="darkenLess" w="51295" h="21600">
                <a:moveTo>
                  <a:pt x="51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5" y="20200"/>
                </a:lnTo>
                <a:close/>
              </a:path>
              <a:path fill="lighten" w="51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2" action="ppaction://hlinksldjump"/>
          </p:cNvPr>
          <p:cNvSpPr/>
          <p:nvPr/>
        </p:nvSpPr>
        <p:spPr>
          <a:xfrm>
            <a:off x="3132000" y="5589720"/>
            <a:ext cx="1368720" cy="576000"/>
          </a:xfrm>
          <a:custGeom>
            <a:avLst/>
            <a:gdLst>
              <a:gd name="textAreaLeft" fmla="*/ 37080 w 1368720"/>
              <a:gd name="textAreaRight" fmla="*/ 1331640 w 1368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1308" h="21600">
                <a:moveTo>
                  <a:pt x="0" y="0"/>
                </a:moveTo>
                <a:lnTo>
                  <a:pt x="51308" y="0"/>
                </a:lnTo>
                <a:lnTo>
                  <a:pt x="51308" y="21600"/>
                </a:lnTo>
                <a:lnTo>
                  <a:pt x="0" y="21600"/>
                </a:lnTo>
                <a:close/>
              </a:path>
              <a:path fill="lightenLess" w="51308" h="21600">
                <a:moveTo>
                  <a:pt x="0" y="0"/>
                </a:moveTo>
                <a:lnTo>
                  <a:pt x="51308" y="0"/>
                </a:lnTo>
                <a:lnTo>
                  <a:pt x="49908" y="1400"/>
                </a:lnTo>
                <a:lnTo>
                  <a:pt x="1400" y="1400"/>
                </a:lnTo>
                <a:close/>
              </a:path>
              <a:path fill="darken" w="51308" h="21600">
                <a:moveTo>
                  <a:pt x="51308" y="0"/>
                </a:moveTo>
                <a:lnTo>
                  <a:pt x="51308" y="21600"/>
                </a:lnTo>
                <a:lnTo>
                  <a:pt x="49908" y="20200"/>
                </a:lnTo>
                <a:lnTo>
                  <a:pt x="49908" y="1400"/>
                </a:lnTo>
                <a:close/>
              </a:path>
              <a:path fill="darkenLess" w="51308" h="21600">
                <a:moveTo>
                  <a:pt x="51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08" y="20200"/>
                </a:lnTo>
                <a:close/>
              </a:path>
              <a:path fill="lighten" w="51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5219640" y="5589720"/>
            <a:ext cx="1081080" cy="576000"/>
          </a:xfrm>
          <a:custGeom>
            <a:avLst/>
            <a:gdLst>
              <a:gd name="textAreaLeft" fmla="*/ 37080 w 1081080"/>
              <a:gd name="textAreaRight" fmla="*/ 1044000 w 1081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0529" h="21600">
                <a:moveTo>
                  <a:pt x="0" y="0"/>
                </a:moveTo>
                <a:lnTo>
                  <a:pt x="40529" y="0"/>
                </a:lnTo>
                <a:lnTo>
                  <a:pt x="40529" y="21600"/>
                </a:lnTo>
                <a:lnTo>
                  <a:pt x="0" y="21600"/>
                </a:lnTo>
                <a:close/>
              </a:path>
              <a:path fill="lightenLess" w="40529" h="21600">
                <a:moveTo>
                  <a:pt x="0" y="0"/>
                </a:moveTo>
                <a:lnTo>
                  <a:pt x="40529" y="0"/>
                </a:lnTo>
                <a:lnTo>
                  <a:pt x="39129" y="1400"/>
                </a:lnTo>
                <a:lnTo>
                  <a:pt x="1400" y="1400"/>
                </a:lnTo>
                <a:close/>
              </a:path>
              <a:path fill="darken" w="40529" h="21600">
                <a:moveTo>
                  <a:pt x="40529" y="0"/>
                </a:moveTo>
                <a:lnTo>
                  <a:pt x="40529" y="21600"/>
                </a:lnTo>
                <a:lnTo>
                  <a:pt x="39129" y="20200"/>
                </a:lnTo>
                <a:lnTo>
                  <a:pt x="39129" y="1400"/>
                </a:lnTo>
                <a:close/>
              </a:path>
              <a:path fill="darkenLess" w="40529" h="21600">
                <a:moveTo>
                  <a:pt x="405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29" y="20200"/>
                </a:lnTo>
                <a:close/>
              </a:path>
              <a:path fill="lighten" w="405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574760" y="2421000"/>
            <a:ext cx="165600" cy="1670040"/>
            <a:chOff x="7574760" y="2421000"/>
            <a:chExt cx="165600" cy="1670040"/>
          </a:xfrm>
        </p:grpSpPr>
        <p:grpSp>
          <p:nvGrpSpPr>
            <p:cNvPr id="311" name="Group 6"/>
            <p:cNvGrpSpPr/>
            <p:nvPr/>
          </p:nvGrpSpPr>
          <p:grpSpPr>
            <a:xfrm>
              <a:off x="7574760" y="3578400"/>
              <a:ext cx="136440" cy="272880"/>
              <a:chOff x="7574760" y="3578400"/>
              <a:chExt cx="136440" cy="272880"/>
            </a:xfrm>
          </p:grpSpPr>
          <p:sp>
            <p:nvSpPr>
              <p:cNvPr id="312" name="Rectangle 17"/>
              <p:cNvSpPr/>
              <p:nvPr/>
            </p:nvSpPr>
            <p:spPr>
              <a:xfrm>
                <a:off x="7596360" y="3578400"/>
                <a:ext cx="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8"/>
              <p:cNvSpPr/>
              <p:nvPr/>
            </p:nvSpPr>
            <p:spPr>
              <a:xfrm>
                <a:off x="7574760" y="357840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Line 16"/>
            <p:cNvSpPr/>
            <p:nvPr/>
          </p:nvSpPr>
          <p:spPr>
            <a:xfrm>
              <a:off x="7739640" y="2421000"/>
              <a:ext cx="720" cy="16700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68360" y="2997360"/>
            <a:ext cx="56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求证：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在线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的垂直平分线上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39640" y="139068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线段垂直平分线的判定定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一条线段两个端点距离相等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线段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垂直平分线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1270080"/>
            <a:ext cx="95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640" y="364500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∵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PA=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1" lang="zh-CN" sz="2800" spc="-1" strike="noStrike">
                <a:solidFill>
                  <a:srgbClr val="ff0000"/>
                </a:solidFill>
                <a:latin typeface="Trebuchet MS"/>
              </a:rPr>
              <a:t>点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Trebuchet MS"/>
              </a:rPr>
              <a:t>在线段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的垂直平分线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3"/>
          <p:cNvGrpSpPr/>
          <p:nvPr/>
        </p:nvGrpSpPr>
        <p:grpSpPr>
          <a:xfrm>
            <a:off x="5723640" y="2565360"/>
            <a:ext cx="2055960" cy="1653840"/>
            <a:chOff x="5723640" y="2565360"/>
            <a:chExt cx="2055960" cy="1653840"/>
          </a:xfrm>
        </p:grpSpPr>
        <p:sp>
          <p:nvSpPr>
            <p:cNvPr id="320" name="Line 10"/>
            <p:cNvSpPr/>
            <p:nvPr/>
          </p:nvSpPr>
          <p:spPr>
            <a:xfrm>
              <a:off x="5884560" y="3899160"/>
              <a:ext cx="9039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1"/>
            <p:cNvSpPr/>
            <p:nvPr/>
          </p:nvSpPr>
          <p:spPr>
            <a:xfrm flipH="1">
              <a:off x="5884200" y="2790360"/>
              <a:ext cx="903960" cy="110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2"/>
            <p:cNvSpPr/>
            <p:nvPr/>
          </p:nvSpPr>
          <p:spPr>
            <a:xfrm>
              <a:off x="6788880" y="3899160"/>
              <a:ext cx="905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3"/>
            <p:cNvSpPr/>
            <p:nvPr/>
          </p:nvSpPr>
          <p:spPr>
            <a:xfrm>
              <a:off x="6788880" y="2790360"/>
              <a:ext cx="905040" cy="110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18"/>
            <p:cNvGrpSpPr/>
            <p:nvPr/>
          </p:nvGrpSpPr>
          <p:grpSpPr>
            <a:xfrm>
              <a:off x="7643160" y="3886200"/>
              <a:ext cx="136440" cy="333000"/>
              <a:chOff x="7643160" y="3886200"/>
              <a:chExt cx="136440" cy="333000"/>
            </a:xfrm>
          </p:grpSpPr>
          <p:sp>
            <p:nvSpPr>
              <p:cNvPr id="325" name="Rectangle 20"/>
              <p:cNvSpPr/>
              <p:nvPr/>
            </p:nvSpPr>
            <p:spPr>
              <a:xfrm>
                <a:off x="7643520" y="3886200"/>
                <a:ext cx="72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1"/>
              <p:cNvSpPr/>
              <p:nvPr/>
            </p:nvSpPr>
            <p:spPr>
              <a:xfrm>
                <a:off x="7643160" y="388620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21"/>
            <p:cNvGrpSpPr/>
            <p:nvPr/>
          </p:nvGrpSpPr>
          <p:grpSpPr>
            <a:xfrm>
              <a:off x="6557400" y="2565360"/>
              <a:ext cx="124200" cy="333000"/>
              <a:chOff x="6557400" y="2565360"/>
              <a:chExt cx="124200" cy="333000"/>
            </a:xfrm>
          </p:grpSpPr>
          <p:sp>
            <p:nvSpPr>
              <p:cNvPr id="328" name="Rectangle 23"/>
              <p:cNvSpPr/>
              <p:nvPr/>
            </p:nvSpPr>
            <p:spPr>
              <a:xfrm>
                <a:off x="6558120" y="2565360"/>
                <a:ext cx="72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24"/>
              <p:cNvSpPr/>
              <p:nvPr/>
            </p:nvSpPr>
            <p:spPr>
              <a:xfrm>
                <a:off x="6557400" y="2565360"/>
                <a:ext cx="12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24"/>
            <p:cNvGrpSpPr/>
            <p:nvPr/>
          </p:nvGrpSpPr>
          <p:grpSpPr>
            <a:xfrm>
              <a:off x="5723640" y="3862080"/>
              <a:ext cx="136440" cy="333000"/>
              <a:chOff x="5723640" y="3862080"/>
              <a:chExt cx="136440" cy="333000"/>
            </a:xfrm>
          </p:grpSpPr>
          <p:sp>
            <p:nvSpPr>
              <p:cNvPr id="331" name="Rectangle 26"/>
              <p:cNvSpPr/>
              <p:nvPr/>
            </p:nvSpPr>
            <p:spPr>
              <a:xfrm>
                <a:off x="5724360" y="3862080"/>
                <a:ext cx="72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27"/>
              <p:cNvSpPr/>
              <p:nvPr/>
            </p:nvSpPr>
            <p:spPr>
              <a:xfrm>
                <a:off x="5723640" y="386208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8435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三环节  逆向思维，探索判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30700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符号语言表示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17920" y="4581360"/>
            <a:ext cx="535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里只能确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这一个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在线段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垂直平分线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但不能说明经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点的直线就是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线段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垂直平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595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环节  实际应用，归纳提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21360" y="1124280"/>
            <a:ext cx="503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 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：如图，在 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= 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 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一点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=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7" descr=""/>
          <p:cNvPicPr/>
          <p:nvPr/>
        </p:nvPicPr>
        <p:blipFill>
          <a:blip r:embed="rId1"/>
          <a:stretch/>
        </p:blipFill>
        <p:spPr>
          <a:xfrm>
            <a:off x="6156360" y="1052640"/>
            <a:ext cx="2365200" cy="23810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22680" y="2281680"/>
            <a:ext cx="42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证：直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垂直平分线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9640" y="2997360"/>
            <a:ext cx="842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AB=AC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（已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    ∴</a:t>
            </a:r>
            <a:r>
              <a:rPr b="0" lang="zh-CN" sz="2400" spc="-1" strike="noStrike">
                <a:solidFill>
                  <a:srgbClr val="0000ff"/>
                </a:solidFill>
                <a:latin typeface="Trebuchet MS"/>
              </a:rPr>
              <a:t>点</a:t>
            </a:r>
            <a:r>
              <a:rPr b="0" lang="zh-CN" sz="2400" spc="-1" strike="noStrike">
                <a:solidFill>
                  <a:srgbClr val="0000ff"/>
                </a:solidFill>
                <a:latin typeface="Trebuchet MS"/>
              </a:rPr>
              <a:t>A</a:t>
            </a:r>
            <a:r>
              <a:rPr b="0" lang="zh-CN" sz="2400" spc="-1" strike="noStrike">
                <a:solidFill>
                  <a:srgbClr val="0000ff"/>
                </a:solidFill>
                <a:latin typeface="Trebuchet MS"/>
              </a:rPr>
              <a:t>在线段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BC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的垂直平分线上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rebuchet MS"/>
              </a:rPr>
              <a:t>线段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垂直平分线判定定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OB=OC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（已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 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点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在线段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B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的垂直平分线上</a:t>
            </a:r>
            <a:r>
              <a:rPr b="0" lang="zh-CN" sz="1800" spc="-1" strike="noStrike">
                <a:solidFill>
                  <a:srgbClr val="000000"/>
                </a:solidFill>
                <a:latin typeface="Trebuchet MS"/>
              </a:rPr>
              <a:t>线段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垂直平分线判定定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直线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AO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垂直平分线段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BC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点确 定一条直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51880" y="4468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9640" y="551808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归纳： 逆定理可以作为线段垂直平分线的判定，但必须是经过满足条件的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个点的直 线才是线段的垂直平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27280" y="587700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6059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第四环节  实际应用，归纳提高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图片 64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403520" cy="183528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137"/>
          <p:cNvSpPr/>
          <p:nvPr/>
        </p:nvSpPr>
        <p:spPr>
          <a:xfrm>
            <a:off x="2038320" y="2843280"/>
            <a:ext cx="39672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5280" y="8618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观察与思考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观察下面用尺规作线段垂直平分线的步骤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思考这种作法的依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36840" y="2774880"/>
            <a:ext cx="360" cy="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643920"/>
            <a:ext cx="920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一：分别以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圆心，以固定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长的一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半径画弧，两弧分别交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二：过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直线，则直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是线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垂直平分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尺规作线段垂直平分线的依据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27640" y="4869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到一条线段两个端点距离相等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点，在这条线段的垂直平分线上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1080" y="5877000"/>
            <a:ext cx="87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引例中找码头地点的作法依据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08360" y="5805360"/>
            <a:ext cx="50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177640" y="1195560"/>
            <a:ext cx="474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图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两个仓库，要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侧的河岸边建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码头，使它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到两个仓库的距离相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码头应建在什么位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图片 7" descr=""/>
          <p:cNvPicPr/>
          <p:nvPr/>
        </p:nvPicPr>
        <p:blipFill>
          <a:blip r:embed="rId1"/>
          <a:stretch/>
        </p:blipFill>
        <p:spPr>
          <a:xfrm>
            <a:off x="3708360" y="2997360"/>
            <a:ext cx="3529080" cy="2379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 rot="18637200">
            <a:off x="5387760" y="2583000"/>
            <a:ext cx="132048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48" y="51"/>
                </a:moveTo>
                <a:arcTo wR="10800" hR="10800" stAng="-5735354" swAng="2821473"/>
                <a:lnTo>
                  <a:pt x="10800" y="10800"/>
                </a:lnTo>
                <a:close/>
              </a:path>
              <a:path fill="none" w="21600" h="21600">
                <a:moveTo>
                  <a:pt x="9748" y="51"/>
                </a:moveTo>
                <a:arcTo wR="10800" hR="10800" stAng="-5735354" swAng="2821473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49680" y="3213000"/>
            <a:ext cx="1677960" cy="5763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2317800">
            <a:off x="4393080" y="2400480"/>
            <a:ext cx="132048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48" y="51"/>
                </a:moveTo>
                <a:arcTo wR="10800" hR="10800" stAng="-5735354" swAng="2821473"/>
                <a:lnTo>
                  <a:pt x="10800" y="10800"/>
                </a:lnTo>
                <a:close/>
              </a:path>
              <a:path fill="none" w="21600" h="21600">
                <a:moveTo>
                  <a:pt x="9748" y="51"/>
                </a:moveTo>
                <a:arcTo wR="10800" hR="10800" stAng="-5735354" swAng="2821473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8455800">
            <a:off x="3955320" y="2721960"/>
            <a:ext cx="132048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48" y="51"/>
                </a:moveTo>
                <a:arcTo wR="10800" hR="10800" stAng="-5735354" swAng="2821473"/>
                <a:lnTo>
                  <a:pt x="10800" y="10800"/>
                </a:lnTo>
                <a:close/>
              </a:path>
              <a:path fill="none" w="21600" h="21600">
                <a:moveTo>
                  <a:pt x="9748" y="51"/>
                </a:moveTo>
                <a:arcTo wR="10800" hR="10800" stAng="-5735354" swAng="2821473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3329600">
            <a:off x="5039640" y="2945160"/>
            <a:ext cx="132048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48" y="51"/>
                </a:moveTo>
                <a:arcTo wR="10800" hR="10800" stAng="-5735354" swAng="2821473"/>
                <a:lnTo>
                  <a:pt x="10800" y="10800"/>
                </a:lnTo>
                <a:close/>
              </a:path>
              <a:path fill="none" w="21600" h="21600">
                <a:moveTo>
                  <a:pt x="9748" y="51"/>
                </a:moveTo>
                <a:arcTo wR="10800" hR="10800" stAng="-5735354" swAng="2821473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788000" y="2276640"/>
            <a:ext cx="1079280" cy="26650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1636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30480" y="5373720"/>
            <a:ext cx="36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码头应建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19120" y="600084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理论依据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7788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五环节：课堂小结，知识升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9640" y="1377000"/>
            <a:ext cx="74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这节课的学习你有哪些新的收获？还有哪些困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27920" y="3200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1917720"/>
            <a:ext cx="83534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线段垂直平分线的性质定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线段垂直平分线上的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点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到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这条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线段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两个端点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距离相等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线段垂直平分线的判定定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到一条线段两个端点距离相等的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点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在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这条线段的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垂直平分线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用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几何符号语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线段垂直平分线的性质定理及其定理进行了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证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逆定理作为线段垂直平分线的判定，但必须是经过满足条件的 （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）个点的直线才是线段的垂直平分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通过对定理的证明体会理解证明的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严谨性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运用两个定理解决简单的实际问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826920" y="2060640"/>
            <a:ext cx="777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93680" y="2019240"/>
            <a:ext cx="715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62160" y="2755800"/>
            <a:ext cx="68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69228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549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513440" y="533520"/>
            <a:ext cx="5436000" cy="5943600"/>
            <a:chOff x="1513440" y="533520"/>
            <a:chExt cx="5436000" cy="5943600"/>
          </a:xfrm>
        </p:grpSpPr>
        <p:grpSp>
          <p:nvGrpSpPr>
            <p:cNvPr id="374" name=""/>
            <p:cNvGrpSpPr/>
            <p:nvPr/>
          </p:nvGrpSpPr>
          <p:grpSpPr>
            <a:xfrm>
              <a:off x="1513440" y="533520"/>
              <a:ext cx="5436000" cy="5943600"/>
              <a:chOff x="1513440" y="533520"/>
              <a:chExt cx="5436000" cy="5943600"/>
            </a:xfrm>
          </p:grpSpPr>
          <p:sp>
            <p:nvSpPr>
              <p:cNvPr id="375" name=""/>
              <p:cNvSpPr/>
              <p:nvPr/>
            </p:nvSpPr>
            <p:spPr>
              <a:xfrm>
                <a:off x="2144520" y="4038840"/>
                <a:ext cx="4191120" cy="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201920" y="533520"/>
                <a:ext cx="0" cy="594360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513440" y="38102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66040" y="38102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4251960" y="4219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0000">
              <a:off x="4177440" y="3696120"/>
              <a:ext cx="27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Marlett"/>
                  <a:ea typeface="Marlett"/>
                </a:rPr>
                <a:t>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144880" y="1143000"/>
            <a:ext cx="4190400" cy="2895480"/>
            <a:chOff x="2144880" y="1143000"/>
            <a:chExt cx="4190400" cy="2895480"/>
          </a:xfrm>
        </p:grpSpPr>
        <p:grpSp>
          <p:nvGrpSpPr>
            <p:cNvPr id="382" name=""/>
            <p:cNvGrpSpPr/>
            <p:nvPr/>
          </p:nvGrpSpPr>
          <p:grpSpPr>
            <a:xfrm>
              <a:off x="2144880" y="1371600"/>
              <a:ext cx="4190400" cy="2666880"/>
              <a:chOff x="2144880" y="1371600"/>
              <a:chExt cx="4190400" cy="2666880"/>
            </a:xfrm>
          </p:grpSpPr>
          <p:sp>
            <p:nvSpPr>
              <p:cNvPr id="383" name=""/>
              <p:cNvSpPr/>
              <p:nvPr/>
            </p:nvSpPr>
            <p:spPr>
              <a:xfrm flipH="1">
                <a:off x="2144880" y="1371600"/>
                <a:ext cx="2057040" cy="26668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201920" y="1371600"/>
                <a:ext cx="2133360" cy="26668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4059360" y="114300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144880" y="4038120"/>
            <a:ext cx="4190400" cy="1831680"/>
            <a:chOff x="2144880" y="4038120"/>
            <a:chExt cx="4190400" cy="1831680"/>
          </a:xfrm>
        </p:grpSpPr>
        <p:grpSp>
          <p:nvGrpSpPr>
            <p:cNvPr id="387" name=""/>
            <p:cNvGrpSpPr/>
            <p:nvPr/>
          </p:nvGrpSpPr>
          <p:grpSpPr>
            <a:xfrm>
              <a:off x="2144880" y="4038120"/>
              <a:ext cx="4190400" cy="1600200"/>
              <a:chOff x="2144880" y="4038120"/>
              <a:chExt cx="4190400" cy="1600200"/>
            </a:xfrm>
          </p:grpSpPr>
          <p:sp>
            <p:nvSpPr>
              <p:cNvPr id="388" name=""/>
              <p:cNvSpPr/>
              <p:nvPr/>
            </p:nvSpPr>
            <p:spPr>
              <a:xfrm flipH="1" flipV="1">
                <a:off x="2144880" y="4038120"/>
                <a:ext cx="2057040" cy="1600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4201920" y="4038120"/>
                <a:ext cx="2133360" cy="1600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4059360" y="541008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220480" y="4038120"/>
            <a:ext cx="4115160" cy="1374480"/>
            <a:chOff x="2220480" y="4038120"/>
            <a:chExt cx="4115160" cy="1374480"/>
          </a:xfrm>
        </p:grpSpPr>
        <p:grpSp>
          <p:nvGrpSpPr>
            <p:cNvPr id="392" name=""/>
            <p:cNvGrpSpPr/>
            <p:nvPr/>
          </p:nvGrpSpPr>
          <p:grpSpPr>
            <a:xfrm>
              <a:off x="2220480" y="4038120"/>
              <a:ext cx="4115160" cy="1143000"/>
              <a:chOff x="2220480" y="4038120"/>
              <a:chExt cx="4115160" cy="1143000"/>
            </a:xfrm>
          </p:grpSpPr>
          <p:sp>
            <p:nvSpPr>
              <p:cNvPr id="393" name=""/>
              <p:cNvSpPr/>
              <p:nvPr/>
            </p:nvSpPr>
            <p:spPr>
              <a:xfrm flipH="1" flipV="1">
                <a:off x="2220480" y="4038120"/>
                <a:ext cx="1981080" cy="114300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4201920" y="4038120"/>
                <a:ext cx="2133720" cy="114300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059360" y="495288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123640" y="4005000"/>
            <a:ext cx="4191480" cy="917280"/>
            <a:chOff x="2123640" y="4005000"/>
            <a:chExt cx="4191480" cy="917280"/>
          </a:xfrm>
        </p:grpSpPr>
        <p:grpSp>
          <p:nvGrpSpPr>
            <p:cNvPr id="397" name=""/>
            <p:cNvGrpSpPr/>
            <p:nvPr/>
          </p:nvGrpSpPr>
          <p:grpSpPr>
            <a:xfrm>
              <a:off x="2123640" y="4005000"/>
              <a:ext cx="4191480" cy="685800"/>
              <a:chOff x="2123640" y="4005000"/>
              <a:chExt cx="4191480" cy="685800"/>
            </a:xfrm>
          </p:grpSpPr>
          <p:sp>
            <p:nvSpPr>
              <p:cNvPr id="398" name=""/>
              <p:cNvSpPr/>
              <p:nvPr/>
            </p:nvSpPr>
            <p:spPr>
              <a:xfrm flipH="1" flipV="1">
                <a:off x="2123640" y="4005000"/>
                <a:ext cx="2057400" cy="68580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4181400" y="4005000"/>
                <a:ext cx="2133720" cy="68580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4038840" y="446256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20480" y="3962520"/>
            <a:ext cx="4115160" cy="459720"/>
            <a:chOff x="2220480" y="3962520"/>
            <a:chExt cx="4115160" cy="459720"/>
          </a:xfrm>
        </p:grpSpPr>
        <p:grpSp>
          <p:nvGrpSpPr>
            <p:cNvPr id="402" name=""/>
            <p:cNvGrpSpPr/>
            <p:nvPr/>
          </p:nvGrpSpPr>
          <p:grpSpPr>
            <a:xfrm>
              <a:off x="2220480" y="4038480"/>
              <a:ext cx="4115160" cy="152280"/>
              <a:chOff x="2220480" y="4038480"/>
              <a:chExt cx="4115160" cy="152280"/>
            </a:xfrm>
          </p:grpSpPr>
          <p:sp>
            <p:nvSpPr>
              <p:cNvPr id="403" name=""/>
              <p:cNvSpPr/>
              <p:nvPr/>
            </p:nvSpPr>
            <p:spPr>
              <a:xfrm flipH="1" flipV="1">
                <a:off x="2220480" y="4038480"/>
                <a:ext cx="1981080" cy="152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4201920" y="4038480"/>
                <a:ext cx="2133720" cy="152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4059360" y="396252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2144520" y="3505320"/>
            <a:ext cx="4115160" cy="532800"/>
            <a:chOff x="2144520" y="3505320"/>
            <a:chExt cx="4115160" cy="532800"/>
          </a:xfrm>
        </p:grpSpPr>
        <p:grpSp>
          <p:nvGrpSpPr>
            <p:cNvPr id="407" name=""/>
            <p:cNvGrpSpPr/>
            <p:nvPr/>
          </p:nvGrpSpPr>
          <p:grpSpPr>
            <a:xfrm>
              <a:off x="2144520" y="3733560"/>
              <a:ext cx="4115160" cy="304560"/>
              <a:chOff x="2144520" y="3733560"/>
              <a:chExt cx="4115160" cy="304560"/>
            </a:xfrm>
          </p:grpSpPr>
          <p:sp>
            <p:nvSpPr>
              <p:cNvPr id="408" name=""/>
              <p:cNvSpPr/>
              <p:nvPr/>
            </p:nvSpPr>
            <p:spPr>
              <a:xfrm flipH="1">
                <a:off x="2144520" y="3733560"/>
                <a:ext cx="2057400" cy="30456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02280" y="3733560"/>
                <a:ext cx="2057400" cy="30456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4059720" y="350532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144880" y="2971800"/>
            <a:ext cx="4190400" cy="1066680"/>
            <a:chOff x="2144880" y="2971800"/>
            <a:chExt cx="4190400" cy="1066680"/>
          </a:xfrm>
        </p:grpSpPr>
        <p:grpSp>
          <p:nvGrpSpPr>
            <p:cNvPr id="412" name=""/>
            <p:cNvGrpSpPr/>
            <p:nvPr/>
          </p:nvGrpSpPr>
          <p:grpSpPr>
            <a:xfrm>
              <a:off x="2144880" y="3200400"/>
              <a:ext cx="4190400" cy="838080"/>
              <a:chOff x="2144880" y="3200400"/>
              <a:chExt cx="4190400" cy="838080"/>
            </a:xfrm>
          </p:grpSpPr>
          <p:sp>
            <p:nvSpPr>
              <p:cNvPr id="413" name=""/>
              <p:cNvSpPr/>
              <p:nvPr/>
            </p:nvSpPr>
            <p:spPr>
              <a:xfrm flipH="1">
                <a:off x="2144880" y="3200400"/>
                <a:ext cx="2057040" cy="8380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201920" y="3200400"/>
                <a:ext cx="2133360" cy="8380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4059360" y="297180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2144880" y="2514600"/>
            <a:ext cx="4190400" cy="1523880"/>
            <a:chOff x="2144880" y="2514600"/>
            <a:chExt cx="4190400" cy="1523880"/>
          </a:xfrm>
        </p:grpSpPr>
        <p:grpSp>
          <p:nvGrpSpPr>
            <p:cNvPr id="417" name=""/>
            <p:cNvGrpSpPr/>
            <p:nvPr/>
          </p:nvGrpSpPr>
          <p:grpSpPr>
            <a:xfrm>
              <a:off x="2144880" y="2743200"/>
              <a:ext cx="4190400" cy="1295280"/>
              <a:chOff x="2144880" y="2743200"/>
              <a:chExt cx="4190400" cy="1295280"/>
            </a:xfrm>
          </p:grpSpPr>
          <p:sp>
            <p:nvSpPr>
              <p:cNvPr id="418" name=""/>
              <p:cNvSpPr/>
              <p:nvPr/>
            </p:nvSpPr>
            <p:spPr>
              <a:xfrm flipH="1">
                <a:off x="2144880" y="2743200"/>
                <a:ext cx="2057040" cy="1295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201920" y="2743200"/>
                <a:ext cx="2133360" cy="1295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4059360" y="251460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193280" y="981000"/>
            <a:ext cx="468720" cy="5117040"/>
            <a:chOff x="4193280" y="981000"/>
            <a:chExt cx="468720" cy="5117040"/>
          </a:xfrm>
        </p:grpSpPr>
        <p:sp>
          <p:nvSpPr>
            <p:cNvPr id="422" name=""/>
            <p:cNvSpPr/>
            <p:nvPr/>
          </p:nvSpPr>
          <p:spPr>
            <a:xfrm>
              <a:off x="4193280" y="9810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45840" y="5638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144880" y="2057400"/>
            <a:ext cx="4190400" cy="1981080"/>
            <a:chOff x="2144880" y="2057400"/>
            <a:chExt cx="4190400" cy="1981080"/>
          </a:xfrm>
        </p:grpSpPr>
        <p:grpSp>
          <p:nvGrpSpPr>
            <p:cNvPr id="425" name=""/>
            <p:cNvGrpSpPr/>
            <p:nvPr/>
          </p:nvGrpSpPr>
          <p:grpSpPr>
            <a:xfrm>
              <a:off x="2144880" y="2286000"/>
              <a:ext cx="4190400" cy="1752480"/>
              <a:chOff x="2144880" y="2286000"/>
              <a:chExt cx="4190400" cy="1752480"/>
            </a:xfrm>
          </p:grpSpPr>
          <p:sp>
            <p:nvSpPr>
              <p:cNvPr id="426" name=""/>
              <p:cNvSpPr/>
              <p:nvPr/>
            </p:nvSpPr>
            <p:spPr>
              <a:xfrm flipH="1">
                <a:off x="2144880" y="2286000"/>
                <a:ext cx="2057040" cy="17524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201920" y="2286000"/>
                <a:ext cx="2133360" cy="17524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059360" y="205740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144880" y="1523880"/>
            <a:ext cx="4190400" cy="2514600"/>
            <a:chOff x="2144880" y="1523880"/>
            <a:chExt cx="4190400" cy="2514600"/>
          </a:xfrm>
        </p:grpSpPr>
        <p:grpSp>
          <p:nvGrpSpPr>
            <p:cNvPr id="430" name=""/>
            <p:cNvGrpSpPr/>
            <p:nvPr/>
          </p:nvGrpSpPr>
          <p:grpSpPr>
            <a:xfrm>
              <a:off x="2144880" y="1752480"/>
              <a:ext cx="4190400" cy="2286000"/>
              <a:chOff x="2144880" y="1752480"/>
              <a:chExt cx="4190400" cy="2286000"/>
            </a:xfrm>
          </p:grpSpPr>
          <p:sp>
            <p:nvSpPr>
              <p:cNvPr id="431" name=""/>
              <p:cNvSpPr/>
              <p:nvPr/>
            </p:nvSpPr>
            <p:spPr>
              <a:xfrm flipH="1">
                <a:off x="2144880" y="1752480"/>
                <a:ext cx="2057040" cy="228600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201920" y="1752480"/>
                <a:ext cx="2133360" cy="228600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4059360" y="152388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39640" y="33336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际上线段的垂直平分线  可以看成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到线段两个端点距离相等的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所有点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的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集合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11640" y="476280"/>
            <a:ext cx="0" cy="601992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55640" y="1125360"/>
            <a:ext cx="677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9280" y="551808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7d"/>
                </a:solidFill>
                <a:latin typeface="方正行楷简体"/>
                <a:ea typeface="方正行楷简体"/>
              </a:rPr>
              <a:t>归纳总结  拓展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500"/>
                            </p:stCondLst>
                            <p:childTnLst>
                              <p:par>
                                <p:cTn id="384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500"/>
                            </p:stCondLst>
                            <p:childTnLst>
                              <p:par>
                                <p:cTn id="391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500"/>
                            </p:stCondLst>
                            <p:childTnLst>
                              <p:par>
                                <p:cTn id="412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9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91516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六环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达标检测，知识反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5600" y="1339920"/>
            <a:ext cx="542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，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=5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B=A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分线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度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5" descr="www.xkb1.com              新课标第一网不用注册，免费下载！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516720" y="620640"/>
            <a:ext cx="1942920" cy="1656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-1660680" y="2793960"/>
            <a:ext cx="911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95280" y="22755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如图，在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已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=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垂直平分线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周长等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长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5280" y="357336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∵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的垂直平分线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 ∴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EA=E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线段垂直平分线性质定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∵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B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的周长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=BC+EC+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E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B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的周长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=BC+EC+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EA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量代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∵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C=EC+EA=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∴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B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的周长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=BC+AC=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∴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BC=50-27=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28160" y="162864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5 °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7020000" y="2637000"/>
            <a:ext cx="1760400" cy="1944000"/>
            <a:chOff x="7020000" y="2637000"/>
            <a:chExt cx="1760400" cy="1944000"/>
          </a:xfrm>
        </p:grpSpPr>
        <p:grpSp>
          <p:nvGrpSpPr>
            <p:cNvPr id="446" name="Group 74"/>
            <p:cNvGrpSpPr/>
            <p:nvPr/>
          </p:nvGrpSpPr>
          <p:grpSpPr>
            <a:xfrm>
              <a:off x="7236000" y="2923920"/>
              <a:ext cx="1398600" cy="1452240"/>
              <a:chOff x="7236000" y="2923920"/>
              <a:chExt cx="1398600" cy="1452240"/>
            </a:xfrm>
          </p:grpSpPr>
          <p:sp>
            <p:nvSpPr>
              <p:cNvPr id="447" name="AutoShape 67"/>
              <p:cNvSpPr/>
              <p:nvPr/>
            </p:nvSpPr>
            <p:spPr>
              <a:xfrm>
                <a:off x="7278120" y="2923920"/>
                <a:ext cx="1213560" cy="1452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70"/>
              <p:cNvSpPr/>
              <p:nvPr/>
            </p:nvSpPr>
            <p:spPr>
              <a:xfrm>
                <a:off x="7236000" y="3553200"/>
                <a:ext cx="1398600" cy="52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73"/>
              <p:cNvSpPr/>
              <p:nvPr/>
            </p:nvSpPr>
            <p:spPr>
              <a:xfrm flipV="1">
                <a:off x="7286760" y="3965400"/>
                <a:ext cx="1046160" cy="40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75"/>
            <p:cNvSpPr/>
            <p:nvPr/>
          </p:nvSpPr>
          <p:spPr>
            <a:xfrm>
              <a:off x="7669440" y="2637000"/>
              <a:ext cx="4665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6"/>
            <p:cNvSpPr/>
            <p:nvPr/>
          </p:nvSpPr>
          <p:spPr>
            <a:xfrm>
              <a:off x="7020000" y="422100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77"/>
            <p:cNvSpPr/>
            <p:nvPr/>
          </p:nvSpPr>
          <p:spPr>
            <a:xfrm>
              <a:off x="8460000" y="4221000"/>
              <a:ext cx="3204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78"/>
            <p:cNvSpPr/>
            <p:nvPr/>
          </p:nvSpPr>
          <p:spPr>
            <a:xfrm>
              <a:off x="7380360" y="3357360"/>
              <a:ext cx="2746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79"/>
            <p:cNvSpPr/>
            <p:nvPr/>
          </p:nvSpPr>
          <p:spPr>
            <a:xfrm>
              <a:off x="8244000" y="3644640"/>
              <a:ext cx="3888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-1320840" y="2682720"/>
            <a:ext cx="911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23040" y="1411200"/>
            <a:ext cx="584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如图，在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=AC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=1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垂直平分线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连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度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84352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六环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达标检测，知识反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9640" y="2781360"/>
            <a:ext cx="66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∵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B=AC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BAC=12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∴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B=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C=(18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°-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2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°)/2=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等边对等角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的垂直平分线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∴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FB=F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线段垂直平分线性质定理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∴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=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B=3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°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等边对等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又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∵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FC=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+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三角形外角和定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FC=3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°+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°=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5651640" y="1701720"/>
            <a:ext cx="3276000" cy="1512360"/>
            <a:chOff x="5651640" y="1701720"/>
            <a:chExt cx="3276000" cy="1512360"/>
          </a:xfrm>
        </p:grpSpPr>
        <p:grpSp>
          <p:nvGrpSpPr>
            <p:cNvPr id="460" name=""/>
            <p:cNvGrpSpPr/>
            <p:nvPr/>
          </p:nvGrpSpPr>
          <p:grpSpPr>
            <a:xfrm>
              <a:off x="5651640" y="1701720"/>
              <a:ext cx="3276000" cy="1512360"/>
              <a:chOff x="5651640" y="1701720"/>
              <a:chExt cx="3276000" cy="1512360"/>
            </a:xfrm>
          </p:grpSpPr>
          <p:grpSp>
            <p:nvGrpSpPr>
              <p:cNvPr id="461" name="Group 57"/>
              <p:cNvGrpSpPr/>
              <p:nvPr/>
            </p:nvGrpSpPr>
            <p:grpSpPr>
              <a:xfrm>
                <a:off x="6006600" y="2110320"/>
                <a:ext cx="2626200" cy="897840"/>
                <a:chOff x="6006600" y="2110320"/>
                <a:chExt cx="2626200" cy="897840"/>
              </a:xfrm>
            </p:grpSpPr>
            <p:sp>
              <p:nvSpPr>
                <p:cNvPr id="462" name="AutoShape 52"/>
                <p:cNvSpPr/>
                <p:nvPr/>
              </p:nvSpPr>
              <p:spPr>
                <a:xfrm>
                  <a:off x="6006600" y="2110320"/>
                  <a:ext cx="2626200" cy="701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53"/>
                <p:cNvSpPr/>
                <p:nvPr/>
              </p:nvSpPr>
              <p:spPr>
                <a:xfrm flipH="1">
                  <a:off x="6899040" y="2118960"/>
                  <a:ext cx="425880" cy="71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56"/>
                <p:cNvSpPr/>
                <p:nvPr/>
              </p:nvSpPr>
              <p:spPr>
                <a:xfrm>
                  <a:off x="6513120" y="2208240"/>
                  <a:ext cx="537120" cy="79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Text Box 60"/>
              <p:cNvSpPr/>
              <p:nvPr/>
            </p:nvSpPr>
            <p:spPr>
              <a:xfrm>
                <a:off x="7016760" y="1701720"/>
                <a:ext cx="42084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61"/>
              <p:cNvSpPr/>
              <p:nvPr/>
            </p:nvSpPr>
            <p:spPr>
              <a:xfrm>
                <a:off x="5651640" y="2527200"/>
                <a:ext cx="42120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62"/>
              <p:cNvSpPr/>
              <p:nvPr/>
            </p:nvSpPr>
            <p:spPr>
              <a:xfrm>
                <a:off x="8506440" y="2577240"/>
                <a:ext cx="42120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63"/>
              <p:cNvSpPr/>
              <p:nvPr/>
            </p:nvSpPr>
            <p:spPr>
              <a:xfrm>
                <a:off x="6636960" y="2794320"/>
                <a:ext cx="4201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64"/>
              <p:cNvSpPr/>
              <p:nvPr/>
            </p:nvSpPr>
            <p:spPr>
              <a:xfrm>
                <a:off x="6288120" y="2146320"/>
                <a:ext cx="42120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7056360" y="2254320"/>
              <a:ext cx="82080" cy="144360"/>
            </a:xfrm>
            <a:custGeom>
              <a:avLst/>
              <a:gdLst/>
              <a:ahLst/>
              <a:rect l="l" t="t" r="r" b="b"/>
              <a:pathLst>
                <a:path w="52" h="91">
                  <a:moveTo>
                    <a:pt x="7" y="0"/>
                  </a:moveTo>
                  <a:cubicBezTo>
                    <a:pt x="3" y="15"/>
                    <a:pt x="0" y="31"/>
                    <a:pt x="7" y="46"/>
                  </a:cubicBezTo>
                  <a:cubicBezTo>
                    <a:pt x="14" y="61"/>
                    <a:pt x="45" y="84"/>
                    <a:pt x="52" y="9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46840" y="2287440"/>
              <a:ext cx="28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019640" y="2614680"/>
              <a:ext cx="144000" cy="16812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0" y="15"/>
                  </a:moveTo>
                  <a:cubicBezTo>
                    <a:pt x="15" y="7"/>
                    <a:pt x="31" y="0"/>
                    <a:pt x="46" y="15"/>
                  </a:cubicBezTo>
                  <a:cubicBezTo>
                    <a:pt x="61" y="30"/>
                    <a:pt x="76" y="68"/>
                    <a:pt x="91" y="1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062480" y="2503440"/>
              <a:ext cx="28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4000" y="1197000"/>
            <a:ext cx="74278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2400"/>
            </a:br>
            <a:br>
              <a:rPr sz="24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谢谢各位老师、同学们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2360" y="1773360"/>
            <a:ext cx="6507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第一章 三角形的证明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7515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线段的垂直平分线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9800" y="56610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49800" y="57974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青开七中      薛太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5"/>
          <p:cNvGrpSpPr/>
          <p:nvPr/>
        </p:nvGrpSpPr>
        <p:grpSpPr>
          <a:xfrm>
            <a:off x="7092360" y="1125360"/>
            <a:ext cx="412560" cy="1670400"/>
            <a:chOff x="7092360" y="1125360"/>
            <a:chExt cx="412560" cy="1670400"/>
          </a:xfrm>
        </p:grpSpPr>
        <p:grpSp>
          <p:nvGrpSpPr>
            <p:cNvPr id="476" name="Group 6"/>
            <p:cNvGrpSpPr/>
            <p:nvPr/>
          </p:nvGrpSpPr>
          <p:grpSpPr>
            <a:xfrm>
              <a:off x="7092360" y="2259000"/>
              <a:ext cx="136440" cy="273600"/>
              <a:chOff x="7092360" y="2259000"/>
              <a:chExt cx="136440" cy="273600"/>
            </a:xfrm>
          </p:grpSpPr>
          <p:sp>
            <p:nvSpPr>
              <p:cNvPr id="477" name="Rectangle 17"/>
              <p:cNvSpPr/>
              <p:nvPr/>
            </p:nvSpPr>
            <p:spPr>
              <a:xfrm>
                <a:off x="7093080" y="2259000"/>
                <a:ext cx="108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8"/>
              <p:cNvSpPr/>
              <p:nvPr/>
            </p:nvSpPr>
            <p:spPr>
              <a:xfrm>
                <a:off x="7092360" y="225900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9"/>
            <p:cNvGrpSpPr/>
            <p:nvPr/>
          </p:nvGrpSpPr>
          <p:grpSpPr>
            <a:xfrm>
              <a:off x="7399080" y="1125360"/>
              <a:ext cx="105840" cy="1670400"/>
              <a:chOff x="7399080" y="1125360"/>
              <a:chExt cx="105840" cy="1670400"/>
            </a:xfrm>
          </p:grpSpPr>
          <p:sp>
            <p:nvSpPr>
              <p:cNvPr id="480" name="Line 16"/>
              <p:cNvSpPr/>
              <p:nvPr/>
            </p:nvSpPr>
            <p:spPr>
              <a:xfrm>
                <a:off x="7399080" y="1125360"/>
                <a:ext cx="1080" cy="167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14"/>
              <p:cNvSpPr/>
              <p:nvPr/>
            </p:nvSpPr>
            <p:spPr>
              <a:xfrm>
                <a:off x="7399080" y="2206440"/>
                <a:ext cx="10476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15"/>
              <p:cNvSpPr/>
              <p:nvPr/>
            </p:nvSpPr>
            <p:spPr>
              <a:xfrm>
                <a:off x="7503840" y="2206440"/>
                <a:ext cx="1080" cy="7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3" name="Group 13"/>
          <p:cNvGrpSpPr/>
          <p:nvPr/>
        </p:nvGrpSpPr>
        <p:grpSpPr>
          <a:xfrm>
            <a:off x="6371640" y="1197000"/>
            <a:ext cx="2055240" cy="1366560"/>
            <a:chOff x="6371640" y="1197000"/>
            <a:chExt cx="2055240" cy="1366560"/>
          </a:xfrm>
        </p:grpSpPr>
        <p:sp>
          <p:nvSpPr>
            <p:cNvPr id="484" name="Line 10"/>
            <p:cNvSpPr/>
            <p:nvPr/>
          </p:nvSpPr>
          <p:spPr>
            <a:xfrm>
              <a:off x="6532560" y="2299320"/>
              <a:ext cx="9039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11"/>
            <p:cNvSpPr/>
            <p:nvPr/>
          </p:nvSpPr>
          <p:spPr>
            <a:xfrm flipH="1">
              <a:off x="6532200" y="1382760"/>
              <a:ext cx="90396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12"/>
            <p:cNvSpPr/>
            <p:nvPr/>
          </p:nvSpPr>
          <p:spPr>
            <a:xfrm>
              <a:off x="7436520" y="2299320"/>
              <a:ext cx="9046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3"/>
            <p:cNvSpPr/>
            <p:nvPr/>
          </p:nvSpPr>
          <p:spPr>
            <a:xfrm>
              <a:off x="7436520" y="1382760"/>
              <a:ext cx="90468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Group 18"/>
            <p:cNvGrpSpPr/>
            <p:nvPr/>
          </p:nvGrpSpPr>
          <p:grpSpPr>
            <a:xfrm>
              <a:off x="8290440" y="2288520"/>
              <a:ext cx="136440" cy="275040"/>
              <a:chOff x="8290440" y="2288520"/>
              <a:chExt cx="136440" cy="275040"/>
            </a:xfrm>
          </p:grpSpPr>
          <p:sp>
            <p:nvSpPr>
              <p:cNvPr id="489" name="Rectangle 20"/>
              <p:cNvSpPr/>
              <p:nvPr/>
            </p:nvSpPr>
            <p:spPr>
              <a:xfrm>
                <a:off x="8291160" y="2288520"/>
                <a:ext cx="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1"/>
              <p:cNvSpPr/>
              <p:nvPr/>
            </p:nvSpPr>
            <p:spPr>
              <a:xfrm>
                <a:off x="8290440" y="228852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21"/>
            <p:cNvGrpSpPr/>
            <p:nvPr/>
          </p:nvGrpSpPr>
          <p:grpSpPr>
            <a:xfrm>
              <a:off x="7205400" y="1197000"/>
              <a:ext cx="124200" cy="275040"/>
              <a:chOff x="7205400" y="1197000"/>
              <a:chExt cx="124200" cy="275040"/>
            </a:xfrm>
          </p:grpSpPr>
          <p:sp>
            <p:nvSpPr>
              <p:cNvPr id="492" name="Rectangle 23"/>
              <p:cNvSpPr/>
              <p:nvPr/>
            </p:nvSpPr>
            <p:spPr>
              <a:xfrm>
                <a:off x="7206120" y="1197000"/>
                <a:ext cx="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24"/>
              <p:cNvSpPr/>
              <p:nvPr/>
            </p:nvSpPr>
            <p:spPr>
              <a:xfrm>
                <a:off x="7205400" y="1197000"/>
                <a:ext cx="12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24"/>
            <p:cNvGrpSpPr/>
            <p:nvPr/>
          </p:nvGrpSpPr>
          <p:grpSpPr>
            <a:xfrm>
              <a:off x="6371640" y="2268360"/>
              <a:ext cx="136440" cy="275040"/>
              <a:chOff x="6371640" y="2268360"/>
              <a:chExt cx="136440" cy="275040"/>
            </a:xfrm>
          </p:grpSpPr>
          <p:sp>
            <p:nvSpPr>
              <p:cNvPr id="495" name="Rectangle 26"/>
              <p:cNvSpPr/>
              <p:nvPr/>
            </p:nvSpPr>
            <p:spPr>
              <a:xfrm>
                <a:off x="6372360" y="2268360"/>
                <a:ext cx="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27"/>
              <p:cNvSpPr/>
              <p:nvPr/>
            </p:nvSpPr>
            <p:spPr>
              <a:xfrm>
                <a:off x="6371640" y="226836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4"/>
          <p:cNvSpPr/>
          <p:nvPr/>
        </p:nvSpPr>
        <p:spPr>
          <a:xfrm>
            <a:off x="324000" y="1197000"/>
            <a:ext cx="676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已知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=P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求证：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在线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的垂直平分线上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1044720" y="2349360"/>
            <a:ext cx="8496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过点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作垂线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⊥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垂足为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△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作法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∵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A=P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∴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△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是等腰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△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的中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三线合一）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C=BC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的垂直平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∴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点在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的垂直平分线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上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垂直平分线定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三环节  逆向思维，探索判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4920" y="1125360"/>
            <a:ext cx="965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证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>
            <a:hlinkClick r:id="rId1" action="ppaction://hlinksldjump"/>
          </p:cNvPr>
          <p:cNvSpPr/>
          <p:nvPr/>
        </p:nvSpPr>
        <p:spPr>
          <a:xfrm>
            <a:off x="8028000" y="587700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8" h="21600">
                <a:moveTo>
                  <a:pt x="7418" y="10800"/>
                </a:moveTo>
                <a:lnTo>
                  <a:pt x="21430" y="3794"/>
                </a:lnTo>
                <a:lnTo>
                  <a:pt x="21430" y="17806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环节  逆向思维，探索判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证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已知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=P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求证：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在线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的垂直平分线上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证明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作△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的中线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所在直线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△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中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作法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∵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A=P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∴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△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是等腰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∴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△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的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三线合一）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⊥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  ∴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点在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的垂直平分线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上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垂直平分线定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3"/>
          <p:cNvGrpSpPr/>
          <p:nvPr/>
        </p:nvGrpSpPr>
        <p:grpSpPr>
          <a:xfrm>
            <a:off x="6516000" y="2060640"/>
            <a:ext cx="2055240" cy="1366560"/>
            <a:chOff x="6516000" y="2060640"/>
            <a:chExt cx="2055240" cy="1366560"/>
          </a:xfrm>
        </p:grpSpPr>
        <p:sp>
          <p:nvSpPr>
            <p:cNvPr id="505" name="Line 10"/>
            <p:cNvSpPr/>
            <p:nvPr/>
          </p:nvSpPr>
          <p:spPr>
            <a:xfrm>
              <a:off x="6676920" y="3162960"/>
              <a:ext cx="9039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1"/>
            <p:cNvSpPr/>
            <p:nvPr/>
          </p:nvSpPr>
          <p:spPr>
            <a:xfrm flipH="1">
              <a:off x="6676560" y="2246400"/>
              <a:ext cx="90396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2"/>
            <p:cNvSpPr/>
            <p:nvPr/>
          </p:nvSpPr>
          <p:spPr>
            <a:xfrm>
              <a:off x="7580880" y="3162960"/>
              <a:ext cx="9046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3"/>
            <p:cNvSpPr/>
            <p:nvPr/>
          </p:nvSpPr>
          <p:spPr>
            <a:xfrm>
              <a:off x="7580880" y="2246400"/>
              <a:ext cx="90468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Group 18"/>
            <p:cNvGrpSpPr/>
            <p:nvPr/>
          </p:nvGrpSpPr>
          <p:grpSpPr>
            <a:xfrm>
              <a:off x="8434800" y="3152160"/>
              <a:ext cx="136440" cy="275040"/>
              <a:chOff x="8434800" y="3152160"/>
              <a:chExt cx="136440" cy="275040"/>
            </a:xfrm>
          </p:grpSpPr>
          <p:sp>
            <p:nvSpPr>
              <p:cNvPr id="510" name="Rectangle 20"/>
              <p:cNvSpPr/>
              <p:nvPr/>
            </p:nvSpPr>
            <p:spPr>
              <a:xfrm>
                <a:off x="8435520" y="3152160"/>
                <a:ext cx="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21"/>
              <p:cNvSpPr/>
              <p:nvPr/>
            </p:nvSpPr>
            <p:spPr>
              <a:xfrm>
                <a:off x="8434800" y="315216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21"/>
            <p:cNvGrpSpPr/>
            <p:nvPr/>
          </p:nvGrpSpPr>
          <p:grpSpPr>
            <a:xfrm>
              <a:off x="7349760" y="2060640"/>
              <a:ext cx="124200" cy="275040"/>
              <a:chOff x="7349760" y="2060640"/>
              <a:chExt cx="124200" cy="275040"/>
            </a:xfrm>
          </p:grpSpPr>
          <p:sp>
            <p:nvSpPr>
              <p:cNvPr id="513" name="Rectangle 23"/>
              <p:cNvSpPr/>
              <p:nvPr/>
            </p:nvSpPr>
            <p:spPr>
              <a:xfrm>
                <a:off x="7350480" y="2060640"/>
                <a:ext cx="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24"/>
              <p:cNvSpPr/>
              <p:nvPr/>
            </p:nvSpPr>
            <p:spPr>
              <a:xfrm>
                <a:off x="7349760" y="2060640"/>
                <a:ext cx="12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24"/>
            <p:cNvGrpSpPr/>
            <p:nvPr/>
          </p:nvGrpSpPr>
          <p:grpSpPr>
            <a:xfrm>
              <a:off x="6516000" y="3132000"/>
              <a:ext cx="136440" cy="275040"/>
              <a:chOff x="6516000" y="3132000"/>
              <a:chExt cx="136440" cy="275040"/>
            </a:xfrm>
          </p:grpSpPr>
          <p:sp>
            <p:nvSpPr>
              <p:cNvPr id="516" name="Rectangle 26"/>
              <p:cNvSpPr/>
              <p:nvPr/>
            </p:nvSpPr>
            <p:spPr>
              <a:xfrm>
                <a:off x="6516720" y="3132000"/>
                <a:ext cx="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27"/>
              <p:cNvSpPr/>
              <p:nvPr/>
            </p:nvSpPr>
            <p:spPr>
              <a:xfrm>
                <a:off x="6516000" y="313200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8" name=""/>
          <p:cNvGrpSpPr/>
          <p:nvPr/>
        </p:nvGrpSpPr>
        <p:grpSpPr>
          <a:xfrm>
            <a:off x="7368480" y="1995480"/>
            <a:ext cx="210240" cy="1670040"/>
            <a:chOff x="7368480" y="1995480"/>
            <a:chExt cx="210240" cy="1670040"/>
          </a:xfrm>
        </p:grpSpPr>
        <p:grpSp>
          <p:nvGrpSpPr>
            <p:cNvPr id="519" name="Group 6"/>
            <p:cNvGrpSpPr/>
            <p:nvPr/>
          </p:nvGrpSpPr>
          <p:grpSpPr>
            <a:xfrm>
              <a:off x="7368480" y="3152880"/>
              <a:ext cx="136440" cy="272880"/>
              <a:chOff x="7368480" y="3152880"/>
              <a:chExt cx="136440" cy="272880"/>
            </a:xfrm>
          </p:grpSpPr>
          <p:sp>
            <p:nvSpPr>
              <p:cNvPr id="520" name="Rectangle 17"/>
              <p:cNvSpPr/>
              <p:nvPr/>
            </p:nvSpPr>
            <p:spPr>
              <a:xfrm>
                <a:off x="7369200" y="3152880"/>
                <a:ext cx="108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8"/>
              <p:cNvSpPr/>
              <p:nvPr/>
            </p:nvSpPr>
            <p:spPr>
              <a:xfrm>
                <a:off x="7368480" y="315288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Line 16"/>
            <p:cNvSpPr/>
            <p:nvPr/>
          </p:nvSpPr>
          <p:spPr>
            <a:xfrm>
              <a:off x="7577280" y="1995480"/>
              <a:ext cx="1440" cy="16700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>
            <a:hlinkClick r:id="rId1" action="ppaction://hlinksldjump"/>
          </p:cNvPr>
          <p:cNvSpPr/>
          <p:nvPr/>
        </p:nvSpPr>
        <p:spPr>
          <a:xfrm>
            <a:off x="8028000" y="587700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8" h="21600">
                <a:moveTo>
                  <a:pt x="7418" y="10800"/>
                </a:moveTo>
                <a:lnTo>
                  <a:pt x="21430" y="3794"/>
                </a:lnTo>
                <a:lnTo>
                  <a:pt x="21430" y="17806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5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环节  逆向思维，探索判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证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已知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=P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求证：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在线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的垂直平分线上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证明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作△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的角平分线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C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所在直线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∵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A=P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又∵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△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的角平分线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作法知）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=B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⊥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等腰三角形 中“三线合一 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∴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点在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的垂直平分线上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13"/>
          <p:cNvGrpSpPr/>
          <p:nvPr/>
        </p:nvGrpSpPr>
        <p:grpSpPr>
          <a:xfrm>
            <a:off x="6516000" y="2060640"/>
            <a:ext cx="2055240" cy="1368000"/>
            <a:chOff x="6516000" y="2060640"/>
            <a:chExt cx="2055240" cy="1368000"/>
          </a:xfrm>
        </p:grpSpPr>
        <p:sp>
          <p:nvSpPr>
            <p:cNvPr id="527" name="Line 10"/>
            <p:cNvSpPr/>
            <p:nvPr/>
          </p:nvSpPr>
          <p:spPr>
            <a:xfrm>
              <a:off x="6676920" y="3164040"/>
              <a:ext cx="9039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1"/>
            <p:cNvSpPr/>
            <p:nvPr/>
          </p:nvSpPr>
          <p:spPr>
            <a:xfrm flipH="1">
              <a:off x="6676560" y="2246760"/>
              <a:ext cx="903960" cy="9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2"/>
            <p:cNvSpPr/>
            <p:nvPr/>
          </p:nvSpPr>
          <p:spPr>
            <a:xfrm>
              <a:off x="7580880" y="3164040"/>
              <a:ext cx="9046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3"/>
            <p:cNvSpPr/>
            <p:nvPr/>
          </p:nvSpPr>
          <p:spPr>
            <a:xfrm>
              <a:off x="7580880" y="2246760"/>
              <a:ext cx="904680" cy="9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18"/>
            <p:cNvGrpSpPr/>
            <p:nvPr/>
          </p:nvGrpSpPr>
          <p:grpSpPr>
            <a:xfrm>
              <a:off x="8434800" y="3153240"/>
              <a:ext cx="136440" cy="275400"/>
              <a:chOff x="8434800" y="3153240"/>
              <a:chExt cx="136440" cy="275400"/>
            </a:xfrm>
          </p:grpSpPr>
          <p:sp>
            <p:nvSpPr>
              <p:cNvPr id="532" name="Rectangle 20"/>
              <p:cNvSpPr/>
              <p:nvPr/>
            </p:nvSpPr>
            <p:spPr>
              <a:xfrm>
                <a:off x="8435520" y="3153240"/>
                <a:ext cx="720" cy="2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21"/>
              <p:cNvSpPr/>
              <p:nvPr/>
            </p:nvSpPr>
            <p:spPr>
              <a:xfrm>
                <a:off x="8434800" y="315324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21"/>
            <p:cNvGrpSpPr/>
            <p:nvPr/>
          </p:nvGrpSpPr>
          <p:grpSpPr>
            <a:xfrm>
              <a:off x="7349760" y="2060640"/>
              <a:ext cx="124200" cy="275400"/>
              <a:chOff x="7349760" y="2060640"/>
              <a:chExt cx="124200" cy="275400"/>
            </a:xfrm>
          </p:grpSpPr>
          <p:sp>
            <p:nvSpPr>
              <p:cNvPr id="535" name="Rectangle 23"/>
              <p:cNvSpPr/>
              <p:nvPr/>
            </p:nvSpPr>
            <p:spPr>
              <a:xfrm>
                <a:off x="7350480" y="2060640"/>
                <a:ext cx="720" cy="2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24"/>
              <p:cNvSpPr/>
              <p:nvPr/>
            </p:nvSpPr>
            <p:spPr>
              <a:xfrm>
                <a:off x="7349760" y="2060640"/>
                <a:ext cx="12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24"/>
            <p:cNvGrpSpPr/>
            <p:nvPr/>
          </p:nvGrpSpPr>
          <p:grpSpPr>
            <a:xfrm>
              <a:off x="6516000" y="3133440"/>
              <a:ext cx="136440" cy="275400"/>
              <a:chOff x="6516000" y="3133440"/>
              <a:chExt cx="136440" cy="275400"/>
            </a:xfrm>
          </p:grpSpPr>
          <p:sp>
            <p:nvSpPr>
              <p:cNvPr id="538" name="Rectangle 26"/>
              <p:cNvSpPr/>
              <p:nvPr/>
            </p:nvSpPr>
            <p:spPr>
              <a:xfrm>
                <a:off x="6516720" y="3133440"/>
                <a:ext cx="720" cy="2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27"/>
              <p:cNvSpPr/>
              <p:nvPr/>
            </p:nvSpPr>
            <p:spPr>
              <a:xfrm>
                <a:off x="6516000" y="313344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7368480" y="1995480"/>
            <a:ext cx="210240" cy="1670040"/>
            <a:chOff x="7368480" y="1995480"/>
            <a:chExt cx="210240" cy="1670040"/>
          </a:xfrm>
        </p:grpSpPr>
        <p:grpSp>
          <p:nvGrpSpPr>
            <p:cNvPr id="541" name="Group 6"/>
            <p:cNvGrpSpPr/>
            <p:nvPr/>
          </p:nvGrpSpPr>
          <p:grpSpPr>
            <a:xfrm>
              <a:off x="7368480" y="3152880"/>
              <a:ext cx="136440" cy="272880"/>
              <a:chOff x="7368480" y="3152880"/>
              <a:chExt cx="136440" cy="272880"/>
            </a:xfrm>
          </p:grpSpPr>
          <p:sp>
            <p:nvSpPr>
              <p:cNvPr id="542" name="Rectangle 17"/>
              <p:cNvSpPr/>
              <p:nvPr/>
            </p:nvSpPr>
            <p:spPr>
              <a:xfrm>
                <a:off x="7369200" y="3152880"/>
                <a:ext cx="108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18"/>
              <p:cNvSpPr/>
              <p:nvPr/>
            </p:nvSpPr>
            <p:spPr>
              <a:xfrm>
                <a:off x="7368480" y="315288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Line 16"/>
            <p:cNvSpPr/>
            <p:nvPr/>
          </p:nvSpPr>
          <p:spPr>
            <a:xfrm>
              <a:off x="7577280" y="1995480"/>
              <a:ext cx="1440" cy="16700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>
            <a:hlinkClick r:id="rId1" action="ppaction://hlinksldjump"/>
          </p:cNvPr>
          <p:cNvSpPr/>
          <p:nvPr/>
        </p:nvSpPr>
        <p:spPr>
          <a:xfrm>
            <a:off x="8028000" y="587700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8" h="21600">
                <a:moveTo>
                  <a:pt x="7418" y="10800"/>
                </a:moveTo>
                <a:lnTo>
                  <a:pt x="21430" y="3794"/>
                </a:lnTo>
                <a:lnTo>
                  <a:pt x="21430" y="17806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4831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环节  性质探索与证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25720" y="2308320"/>
            <a:ext cx="464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线段垂直平分线上的点到这条线段两个端点的距离相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34272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1160" y="1772640"/>
            <a:ext cx="26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析命题的条件和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3357720"/>
            <a:ext cx="43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个点在线段的垂直平分线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005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个点到这条线段两个端点的距离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4831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二环节  性质探索与证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85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66680" y="83592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根据条件和结论写出已知和求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7800" y="2541600"/>
            <a:ext cx="10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已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328464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=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53040" y="2565360"/>
            <a:ext cx="43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线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⊥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垂足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=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的任意一点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468360" y="3657600"/>
            <a:ext cx="6480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∵  </a:t>
            </a:r>
            <a:r>
              <a:rPr b="0" lang="zh-CN" sz="2400" spc="-1" strike="noStrike">
                <a:solidFill>
                  <a:srgbClr val="0000ff"/>
                </a:solidFill>
                <a:latin typeface="Trebuchet MS"/>
                <a:ea typeface="Times New Roman"/>
              </a:rPr>
              <a:t>l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⊥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∴∠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CA=∠PCB=90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垂直定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∵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C=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C=P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公共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∴△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CA≌△PC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SAS)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A=P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全等三角形的对应边相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300360" y="2182680"/>
            <a:ext cx="2530800" cy="1176480"/>
            <a:chOff x="6300360" y="2182680"/>
            <a:chExt cx="2530800" cy="1176480"/>
          </a:xfrm>
        </p:grpSpPr>
        <p:sp>
          <p:nvSpPr>
            <p:cNvPr id="128" name=""/>
            <p:cNvSpPr/>
            <p:nvPr/>
          </p:nvSpPr>
          <p:spPr>
            <a:xfrm flipH="1">
              <a:off x="6300360" y="2182680"/>
              <a:ext cx="1265400" cy="11764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66120" y="2182680"/>
              <a:ext cx="1265040" cy="11764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8760960" y="33465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412760" y="1631880"/>
            <a:ext cx="94320" cy="182880"/>
            <a:chOff x="7412760" y="1631880"/>
            <a:chExt cx="94320" cy="182880"/>
          </a:xfrm>
        </p:grpSpPr>
        <p:sp>
          <p:nvSpPr>
            <p:cNvPr id="132" name=""/>
            <p:cNvSpPr/>
            <p:nvPr/>
          </p:nvSpPr>
          <p:spPr>
            <a:xfrm>
              <a:off x="7412760" y="1631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13480" y="163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074640" y="3321000"/>
            <a:ext cx="2788920" cy="208440"/>
            <a:chOff x="6074640" y="3321000"/>
            <a:chExt cx="2788920" cy="208440"/>
          </a:xfrm>
        </p:grpSpPr>
        <p:grpSp>
          <p:nvGrpSpPr>
            <p:cNvPr id="135" name=""/>
            <p:cNvGrpSpPr/>
            <p:nvPr/>
          </p:nvGrpSpPr>
          <p:grpSpPr>
            <a:xfrm>
              <a:off x="6300720" y="3357360"/>
              <a:ext cx="2529000" cy="1440"/>
              <a:chOff x="6300720" y="3357360"/>
              <a:chExt cx="2529000" cy="1440"/>
            </a:xfrm>
          </p:grpSpPr>
          <p:sp>
            <p:nvSpPr>
              <p:cNvPr id="136" name=""/>
              <p:cNvSpPr/>
              <p:nvPr/>
            </p:nvSpPr>
            <p:spPr>
              <a:xfrm>
                <a:off x="7562880" y="3357360"/>
                <a:ext cx="1266840" cy="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00720" y="3358800"/>
                <a:ext cx="1265400" cy="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8760600" y="3346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75000" y="3321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4640" y="3321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516800" y="1876320"/>
            <a:ext cx="360360" cy="1996920"/>
            <a:chOff x="7516800" y="1876320"/>
            <a:chExt cx="360360" cy="1996920"/>
          </a:xfrm>
        </p:grpSpPr>
        <p:sp>
          <p:nvSpPr>
            <p:cNvPr id="142" name=""/>
            <p:cNvSpPr/>
            <p:nvPr/>
          </p:nvSpPr>
          <p:spPr>
            <a:xfrm flipH="1">
              <a:off x="7536960" y="1876320"/>
              <a:ext cx="11160" cy="184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16800" y="35049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rebuchet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300800" y="1488960"/>
            <a:ext cx="432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07200" y="1454040"/>
            <a:ext cx="58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240680" y="3216240"/>
            <a:ext cx="431640" cy="426240"/>
            <a:chOff x="7240680" y="3216240"/>
            <a:chExt cx="431640" cy="426240"/>
          </a:xfrm>
        </p:grpSpPr>
        <p:sp>
          <p:nvSpPr>
            <p:cNvPr id="147" name=""/>
            <p:cNvSpPr/>
            <p:nvPr/>
          </p:nvSpPr>
          <p:spPr>
            <a:xfrm>
              <a:off x="7240680" y="333540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7516800" y="3216240"/>
              <a:ext cx="142920" cy="144360"/>
              <a:chOff x="7516800" y="3216240"/>
              <a:chExt cx="142920" cy="144360"/>
            </a:xfrm>
          </p:grpSpPr>
          <p:sp>
            <p:nvSpPr>
              <p:cNvPr id="149" name=""/>
              <p:cNvSpPr/>
              <p:nvPr/>
            </p:nvSpPr>
            <p:spPr>
              <a:xfrm>
                <a:off x="7516800" y="32162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59720" y="32162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395280" y="1270080"/>
            <a:ext cx="6840360" cy="1259640"/>
            <a:chOff x="395280" y="1270080"/>
            <a:chExt cx="6840360" cy="1259640"/>
          </a:xfrm>
        </p:grpSpPr>
        <p:sp>
          <p:nvSpPr>
            <p:cNvPr id="152" name=""/>
            <p:cNvSpPr/>
            <p:nvPr/>
          </p:nvSpPr>
          <p:spPr>
            <a:xfrm>
              <a:off x="395280" y="1338480"/>
              <a:ext cx="684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如果</a:t>
              </a: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   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那么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16000" y="1270080"/>
              <a:ext cx="43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一个点在线段的垂直平分线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87280" y="191664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这个点到这条线段两个端点的距离相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9640" y="3718080"/>
            <a:ext cx="8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371808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4831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二环节  性质探索与证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77600" y="1450080"/>
            <a:ext cx="4728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线段垂直平分线的性质定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线段垂直平分线上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点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到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这条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线段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两个端点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距离相等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520" y="3573360"/>
            <a:ext cx="79930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∵</a:t>
            </a:r>
            <a:r>
              <a:rPr b="1" lang="zh-CN" sz="2400" spc="-1" strike="noStrike">
                <a:solidFill>
                  <a:srgbClr val="ff0000"/>
                </a:solidFill>
                <a:latin typeface="Trebuchet MS"/>
              </a:rPr>
              <a:t>l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是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垂直平分线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点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P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是直线</a:t>
            </a:r>
            <a:r>
              <a:rPr b="1" lang="zh-CN" sz="2400" spc="-1" strike="noStrike">
                <a:solidFill>
                  <a:srgbClr val="ff0000"/>
                </a:solidFill>
                <a:latin typeface="Trebuchet MS"/>
              </a:rPr>
              <a:t>l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上一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939640" y="2276640"/>
            <a:ext cx="2788560" cy="2382120"/>
            <a:chOff x="5939640" y="2276640"/>
            <a:chExt cx="2788560" cy="2382120"/>
          </a:xfrm>
        </p:grpSpPr>
        <p:grpSp>
          <p:nvGrpSpPr>
            <p:cNvPr id="161" name=""/>
            <p:cNvGrpSpPr/>
            <p:nvPr/>
          </p:nvGrpSpPr>
          <p:grpSpPr>
            <a:xfrm>
              <a:off x="5939640" y="2276640"/>
              <a:ext cx="2788560" cy="2382120"/>
              <a:chOff x="5939640" y="2276640"/>
              <a:chExt cx="2788560" cy="238212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5939640" y="2419200"/>
                <a:ext cx="2788560" cy="2239560"/>
                <a:chOff x="5939640" y="2419200"/>
                <a:chExt cx="2788560" cy="223956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5939640" y="2419200"/>
                  <a:ext cx="2788560" cy="2086920"/>
                  <a:chOff x="5939640" y="2419200"/>
                  <a:chExt cx="2788560" cy="20869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7428240" y="4143600"/>
                    <a:ext cx="1264680" cy="0"/>
                  </a:xfrm>
                  <a:prstGeom prst="line">
                    <a:avLst/>
                  </a:prstGeom>
                  <a:ln w="1908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5939640" y="2419200"/>
                    <a:ext cx="2788560" cy="1894680"/>
                    <a:chOff x="5939640" y="2419200"/>
                    <a:chExt cx="2788560" cy="189468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6166080" y="4144320"/>
                      <a:ext cx="1264680" cy="0"/>
                    </a:xfrm>
                    <a:prstGeom prst="line">
                      <a:avLst/>
                    </a:prstGeom>
                    <a:ln w="1908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flipH="1">
                      <a:off x="6165720" y="2970000"/>
                      <a:ext cx="1264680" cy="1174320"/>
                    </a:xfrm>
                    <a:prstGeom prst="line">
                      <a:avLst/>
                    </a:prstGeom>
                    <a:ln w="1908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430760" y="2970000"/>
                      <a:ext cx="1265040" cy="1174320"/>
                    </a:xfrm>
                    <a:prstGeom prst="line">
                      <a:avLst/>
                    </a:prstGeom>
                    <a:ln w="1908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9" name=""/>
                    <p:cNvGrpSpPr/>
                    <p:nvPr/>
                  </p:nvGrpSpPr>
                  <p:grpSpPr>
                    <a:xfrm>
                      <a:off x="8625240" y="4131000"/>
                      <a:ext cx="102960" cy="182880"/>
                      <a:chOff x="8625240" y="4131000"/>
                      <a:chExt cx="102960" cy="182880"/>
                    </a:xfrm>
                  </p:grpSpPr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8625240" y="4131000"/>
                        <a:ext cx="7704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_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" name=""/>
                      <p:cNvSpPr/>
                      <p:nvPr/>
                    </p:nvSpPr>
                    <p:spPr>
                      <a:xfrm>
                        <a:off x="8625240" y="4131000"/>
                        <a:ext cx="10296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B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7277400" y="2419200"/>
                      <a:ext cx="94680" cy="182880"/>
                      <a:chOff x="7277400" y="2419200"/>
                      <a:chExt cx="94680" cy="182880"/>
                    </a:xfrm>
                  </p:grpSpPr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7277400" y="2419200"/>
                        <a:ext cx="7704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_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"/>
                      <p:cNvSpPr/>
                      <p:nvPr/>
                    </p:nvSpPr>
                    <p:spPr>
                      <a:xfrm>
                        <a:off x="7278480" y="2419200"/>
                        <a:ext cx="9360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P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5939640" y="4105440"/>
                      <a:ext cx="102960" cy="182880"/>
                      <a:chOff x="5939640" y="4105440"/>
                      <a:chExt cx="102960" cy="18288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939640" y="4105440"/>
                        <a:ext cx="7704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_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5939640" y="4105440"/>
                        <a:ext cx="10296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A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78" name=""/>
                  <p:cNvSpPr/>
                  <p:nvPr/>
                </p:nvSpPr>
                <p:spPr>
                  <a:xfrm flipH="1">
                    <a:off x="7401600" y="2662560"/>
                    <a:ext cx="11520" cy="1843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9" name=""/>
                <p:cNvSpPr/>
                <p:nvPr/>
              </p:nvSpPr>
              <p:spPr>
                <a:xfrm>
                  <a:off x="7381800" y="429048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rebuchet MS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7165800" y="2276640"/>
                <a:ext cx="43200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092720" y="285048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7105680" y="412164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7381800" y="4002480"/>
              <a:ext cx="142920" cy="144000"/>
              <a:chOff x="7381800" y="4002480"/>
              <a:chExt cx="142920" cy="144000"/>
            </a:xfrm>
          </p:grpSpPr>
          <p:sp>
            <p:nvSpPr>
              <p:cNvPr id="184" name=""/>
              <p:cNvSpPr/>
              <p:nvPr/>
            </p:nvSpPr>
            <p:spPr>
              <a:xfrm>
                <a:off x="7381800" y="40024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524720" y="4002480"/>
                <a:ext cx="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395280" y="306864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几何推理符号语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怎么表示性质定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6560" y="429264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PA=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5013360"/>
            <a:ext cx="56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写成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∵</a:t>
            </a:r>
            <a:r>
              <a:rPr b="1" lang="zh-CN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⊥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=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rebuchet MS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PA=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4831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环节  性质探索与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65560" y="1270440"/>
            <a:ext cx="274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结合以上内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图形中你还能得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292000" y="909720"/>
            <a:ext cx="2788560" cy="2384280"/>
            <a:chOff x="5292000" y="909720"/>
            <a:chExt cx="2788560" cy="2384280"/>
          </a:xfrm>
        </p:grpSpPr>
        <p:grpSp>
          <p:nvGrpSpPr>
            <p:cNvPr id="192" name=""/>
            <p:cNvGrpSpPr/>
            <p:nvPr/>
          </p:nvGrpSpPr>
          <p:grpSpPr>
            <a:xfrm>
              <a:off x="5292000" y="909720"/>
              <a:ext cx="2788560" cy="2384280"/>
              <a:chOff x="5292000" y="909720"/>
              <a:chExt cx="2788560" cy="238428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5292000" y="1052640"/>
                <a:ext cx="2788560" cy="2241360"/>
                <a:chOff x="5292000" y="1052640"/>
                <a:chExt cx="2788560" cy="224136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5292000" y="1052640"/>
                  <a:ext cx="2788560" cy="2088360"/>
                  <a:chOff x="5292000" y="1052640"/>
                  <a:chExt cx="2788560" cy="20883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780600" y="2778480"/>
                    <a:ext cx="1264680" cy="0"/>
                  </a:xfrm>
                  <a:prstGeom prst="line">
                    <a:avLst/>
                  </a:prstGeom>
                  <a:ln w="1908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5292000" y="1052640"/>
                    <a:ext cx="2788560" cy="1895760"/>
                    <a:chOff x="5292000" y="1052640"/>
                    <a:chExt cx="2788560" cy="189576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5518440" y="2779200"/>
                      <a:ext cx="1264680" cy="0"/>
                    </a:xfrm>
                    <a:prstGeom prst="line">
                      <a:avLst/>
                    </a:prstGeom>
                    <a:ln w="1908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 flipH="1">
                      <a:off x="5518080" y="1603800"/>
                      <a:ext cx="1264680" cy="1175040"/>
                    </a:xfrm>
                    <a:prstGeom prst="line">
                      <a:avLst/>
                    </a:prstGeom>
                    <a:ln w="1908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6783120" y="1603800"/>
                      <a:ext cx="1265040" cy="1175040"/>
                    </a:xfrm>
                    <a:prstGeom prst="line">
                      <a:avLst/>
                    </a:prstGeom>
                    <a:ln w="1908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0" name=""/>
                    <p:cNvGrpSpPr/>
                    <p:nvPr/>
                  </p:nvGrpSpPr>
                  <p:grpSpPr>
                    <a:xfrm>
                      <a:off x="7977600" y="2765520"/>
                      <a:ext cx="102960" cy="182880"/>
                      <a:chOff x="7977600" y="2765520"/>
                      <a:chExt cx="102960" cy="182880"/>
                    </a:xfrm>
                  </p:grpSpPr>
                  <p:sp>
                    <p:nvSpPr>
                      <p:cNvPr id="201" name=""/>
                      <p:cNvSpPr/>
                      <p:nvPr/>
                    </p:nvSpPr>
                    <p:spPr>
                      <a:xfrm>
                        <a:off x="7977600" y="2765520"/>
                        <a:ext cx="7704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_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" name=""/>
                      <p:cNvSpPr/>
                      <p:nvPr/>
                    </p:nvSpPr>
                    <p:spPr>
                      <a:xfrm>
                        <a:off x="7977600" y="2765520"/>
                        <a:ext cx="10296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B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6629760" y="1052640"/>
                      <a:ext cx="94680" cy="182880"/>
                      <a:chOff x="6629760" y="1052640"/>
                      <a:chExt cx="94680" cy="18288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6629760" y="1052640"/>
                        <a:ext cx="7704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_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6630840" y="1052640"/>
                        <a:ext cx="9360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P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6" name=""/>
                    <p:cNvGrpSpPr/>
                    <p:nvPr/>
                  </p:nvGrpSpPr>
                  <p:grpSpPr>
                    <a:xfrm>
                      <a:off x="5292000" y="2739960"/>
                      <a:ext cx="102960" cy="182880"/>
                      <a:chOff x="5292000" y="2739960"/>
                      <a:chExt cx="102960" cy="182880"/>
                    </a:xfrm>
                  </p:grpSpPr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5292000" y="2739960"/>
                        <a:ext cx="7704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_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"/>
                      <p:cNvSpPr/>
                      <p:nvPr/>
                    </p:nvSpPr>
                    <p:spPr>
                      <a:xfrm>
                        <a:off x="5292000" y="2739960"/>
                        <a:ext cx="10296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A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09" name=""/>
                  <p:cNvSpPr/>
                  <p:nvPr/>
                </p:nvSpPr>
                <p:spPr>
                  <a:xfrm flipH="1">
                    <a:off x="6753960" y="1296000"/>
                    <a:ext cx="11520" cy="1845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"/>
                <p:cNvSpPr/>
                <p:nvPr/>
              </p:nvSpPr>
              <p:spPr>
                <a:xfrm>
                  <a:off x="6734160" y="29257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rebuchet MS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6518160" y="909720"/>
                <a:ext cx="432000" cy="36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445080" y="148428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6458040" y="275616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734160" y="2637000"/>
              <a:ext cx="142920" cy="144360"/>
              <a:chOff x="6734160" y="2637000"/>
              <a:chExt cx="142920" cy="144360"/>
            </a:xfrm>
          </p:grpSpPr>
          <p:sp>
            <p:nvSpPr>
              <p:cNvPr id="215" name=""/>
              <p:cNvSpPr/>
              <p:nvPr/>
            </p:nvSpPr>
            <p:spPr>
              <a:xfrm>
                <a:off x="6734160" y="263700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77080" y="263700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395280" y="357336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△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P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是等腰三角形  、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∠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A=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∠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B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、  “三线合一”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线段的垂直平线是它的一条对称轴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75480" y="112572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应用新知，反馈练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4831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环节  性质探索与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91600" y="1842120"/>
            <a:ext cx="710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如图，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线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垂直平分线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的一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=7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D=6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C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462280" y="3886200"/>
            <a:ext cx="3219480" cy="1560600"/>
            <a:chOff x="5462280" y="3886200"/>
            <a:chExt cx="3219480" cy="1560600"/>
          </a:xfrm>
        </p:grpSpPr>
        <p:sp>
          <p:nvSpPr>
            <p:cNvPr id="223" name=""/>
            <p:cNvSpPr/>
            <p:nvPr/>
          </p:nvSpPr>
          <p:spPr>
            <a:xfrm>
              <a:off x="7580160" y="4030560"/>
              <a:ext cx="0" cy="12463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336720" y="4030560"/>
              <a:ext cx="1243080" cy="6271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37080" y="4657680"/>
              <a:ext cx="1243080" cy="619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75400" y="4657680"/>
              <a:ext cx="0" cy="12852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75400" y="4786200"/>
              <a:ext cx="104760" cy="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62280" y="4657680"/>
              <a:ext cx="321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7618320" y="3886200"/>
              <a:ext cx="127080" cy="274680"/>
              <a:chOff x="7618320" y="3886200"/>
              <a:chExt cx="127080" cy="274680"/>
            </a:xfrm>
          </p:grpSpPr>
          <p:sp>
            <p:nvSpPr>
              <p:cNvPr id="230" name=""/>
              <p:cNvSpPr/>
              <p:nvPr/>
            </p:nvSpPr>
            <p:spPr>
              <a:xfrm>
                <a:off x="7618320" y="388620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18320" y="388620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470200" y="4681440"/>
              <a:ext cx="127080" cy="274680"/>
              <a:chOff x="5470200" y="4681440"/>
              <a:chExt cx="127080" cy="274680"/>
            </a:xfrm>
          </p:grpSpPr>
          <p:sp>
            <p:nvSpPr>
              <p:cNvPr id="233" name=""/>
              <p:cNvSpPr/>
              <p:nvPr/>
            </p:nvSpPr>
            <p:spPr>
              <a:xfrm>
                <a:off x="5470200" y="468144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70200" y="46814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618320" y="5172120"/>
              <a:ext cx="137880" cy="274680"/>
              <a:chOff x="7618320" y="5172120"/>
              <a:chExt cx="137880" cy="274680"/>
            </a:xfrm>
          </p:grpSpPr>
          <p:sp>
            <p:nvSpPr>
              <p:cNvPr id="236" name=""/>
              <p:cNvSpPr/>
              <p:nvPr/>
            </p:nvSpPr>
            <p:spPr>
              <a:xfrm>
                <a:off x="7618320" y="5172120"/>
                <a:ext cx="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18320" y="517212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8515080" y="4689360"/>
              <a:ext cx="127080" cy="274680"/>
              <a:chOff x="8515080" y="4689360"/>
              <a:chExt cx="127080" cy="274680"/>
            </a:xfrm>
          </p:grpSpPr>
          <p:sp>
            <p:nvSpPr>
              <p:cNvPr id="239" name=""/>
              <p:cNvSpPr/>
              <p:nvPr/>
            </p:nvSpPr>
            <p:spPr>
              <a:xfrm>
                <a:off x="8515080" y="468936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515080" y="46893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6238800" y="4681440"/>
              <a:ext cx="127080" cy="274680"/>
              <a:chOff x="6238800" y="4681440"/>
              <a:chExt cx="127080" cy="274680"/>
            </a:xfrm>
          </p:grpSpPr>
          <p:sp>
            <p:nvSpPr>
              <p:cNvPr id="242" name=""/>
              <p:cNvSpPr/>
              <p:nvPr/>
            </p:nvSpPr>
            <p:spPr>
              <a:xfrm>
                <a:off x="6238800" y="468144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238800" y="46814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"/>
          <p:cNvSpPr/>
          <p:nvPr/>
        </p:nvSpPr>
        <p:spPr>
          <a:xfrm>
            <a:off x="4427640" y="24922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24360" y="3213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11640" y="11257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4831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环节  性质探索与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87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1360" y="1626840"/>
            <a:ext cx="589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已知：如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线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垂直平分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线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两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证：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F=∠E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283360" y="2333520"/>
            <a:ext cx="2903400" cy="1671480"/>
            <a:chOff x="5283360" y="2333520"/>
            <a:chExt cx="2903400" cy="1671480"/>
          </a:xfrm>
        </p:grpSpPr>
        <p:sp>
          <p:nvSpPr>
            <p:cNvPr id="251" name=""/>
            <p:cNvSpPr/>
            <p:nvPr/>
          </p:nvSpPr>
          <p:spPr>
            <a:xfrm>
              <a:off x="7220160" y="2489040"/>
              <a:ext cx="299880" cy="64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198920" y="3168720"/>
              <a:ext cx="32868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24720" y="3141720"/>
              <a:ext cx="3081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5283360" y="2333520"/>
              <a:ext cx="2903400" cy="1671480"/>
              <a:chOff x="5283360" y="2333520"/>
              <a:chExt cx="2903400" cy="1671480"/>
            </a:xfrm>
          </p:grpSpPr>
          <p:sp>
            <p:nvSpPr>
              <p:cNvPr id="255" name=""/>
              <p:cNvSpPr/>
              <p:nvPr/>
            </p:nvSpPr>
            <p:spPr>
              <a:xfrm>
                <a:off x="7193160" y="2490840"/>
                <a:ext cx="0" cy="135252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6072120" y="2490840"/>
                <a:ext cx="1120680" cy="6807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072480" y="3171600"/>
                <a:ext cx="1120680" cy="6717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97760" y="3171600"/>
                <a:ext cx="0" cy="139680"/>
              </a:xfrm>
              <a:prstGeom prst="line">
                <a:avLst/>
              </a:prstGeom>
              <a:ln w="79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97760" y="3311280"/>
                <a:ext cx="95400" cy="0"/>
              </a:xfrm>
              <a:prstGeom prst="line">
                <a:avLst/>
              </a:prstGeom>
              <a:ln w="79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83360" y="3171600"/>
                <a:ext cx="2903400" cy="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7227720" y="2333520"/>
                <a:ext cx="145440" cy="274680"/>
                <a:chOff x="7227720" y="2333520"/>
                <a:chExt cx="145440" cy="274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7228080" y="233352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227720" y="2333520"/>
                  <a:ext cx="1454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289480" y="3197160"/>
                <a:ext cx="145440" cy="274680"/>
                <a:chOff x="5289480" y="3197160"/>
                <a:chExt cx="145440" cy="274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289840" y="319716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289480" y="3197160"/>
                  <a:ext cx="1454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227000" y="3730680"/>
                <a:ext cx="157680" cy="274320"/>
                <a:chOff x="7227000" y="3730680"/>
                <a:chExt cx="157680" cy="274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228080" y="3730680"/>
                  <a:ext cx="144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227000" y="3730680"/>
                  <a:ext cx="157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8035560" y="3206520"/>
                <a:ext cx="145440" cy="274680"/>
                <a:chOff x="8035560" y="3206520"/>
                <a:chExt cx="145440" cy="2746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8035920" y="320652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035560" y="3206520"/>
                  <a:ext cx="1454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5983200" y="3197160"/>
                <a:ext cx="145440" cy="274680"/>
                <a:chOff x="5983200" y="3197160"/>
                <a:chExt cx="145440" cy="2746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983560" y="319716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983200" y="3197160"/>
                  <a:ext cx="1454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"/>
          <p:cNvSpPr/>
          <p:nvPr/>
        </p:nvSpPr>
        <p:spPr>
          <a:xfrm>
            <a:off x="905040" y="3584520"/>
            <a:ext cx="48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3357720"/>
            <a:ext cx="83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是线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垂直平分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EC=E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FC=F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段垂直平分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的点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条线段两个端点的距离相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又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∵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EF=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公共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ECF=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E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全等三角形的对应角相等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87280" y="5229360"/>
            <a:ext cx="40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△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EFC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△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EF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S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8435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环节  逆向思维，探索判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51000" y="3497040"/>
            <a:ext cx="6197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能写出上面定理的逆命题吗？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那么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简写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1268280"/>
            <a:ext cx="87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理：线段垂直平分线上的点到这条线段两个端点的距离相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90560" y="4148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个点到一条线段两个端点的距离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90560" y="486900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个点在这条线段的垂直平分线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79640" y="5589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到一条线段两个端点的距离相等的点在这条线段的垂直平分线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757080" y="1916280"/>
            <a:ext cx="7488000" cy="1260360"/>
            <a:chOff x="757080" y="1916280"/>
            <a:chExt cx="7488000" cy="1260360"/>
          </a:xfrm>
        </p:grpSpPr>
        <p:sp>
          <p:nvSpPr>
            <p:cNvPr id="286" name=""/>
            <p:cNvSpPr/>
            <p:nvPr/>
          </p:nvSpPr>
          <p:spPr>
            <a:xfrm>
              <a:off x="757080" y="1985400"/>
              <a:ext cx="748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如果</a:t>
              </a: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   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那么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45840" y="1916280"/>
              <a:ext cx="480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一个点在一条线段的垂直平分线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23960" y="2563560"/>
              <a:ext cx="630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这个点到这条线段两个端点的距离相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3T07:51:25Z</dcterms:created>
  <dc:creator>User</dc:creator>
  <dc:description/>
  <cp:keywords/>
  <dc:language>en-US</dc:language>
  <cp:lastModifiedBy>微软用户</cp:lastModifiedBy>
  <dcterms:modified xsi:type="dcterms:W3CDTF">2010-02-15T19:37:49Z</dcterms:modified>
  <cp:revision>33</cp:revision>
  <dc:subject/>
  <dc:title>第一章 三角形的证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